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jetflyby2.wav" ContentType="audio/x-wav"/>
  <Override PartName="/ppt/media/meepmeep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305-8142-4E54-951A-2C8B6D6A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E8B-E2DA-4DC5-BCA5-8FD12E5D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79D-B341-4EF2-9538-EAE556E9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E33-A41E-4DC4-B174-E26E4864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855-98F7-4B07-AA94-68EA4995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D7B-F6CE-4EF9-A137-BF679EE8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B25-8C11-4251-A603-6CB45C26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F70-6283-487A-A6D6-3E51BCDF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C01-5A5D-4CC5-B53E-4677C7E7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4E3-57C6-478C-B57F-86E59CE7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14A-0A38-41BA-9359-376542B8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551-1BEC-4B03-98EA-7CCF1C57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06E8-03D6-4EA8-9EAD-A7FC75B0B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zipdn102.wav"/><Relationship Id="rId10" Type="http://schemas.openxmlformats.org/officeDocument/2006/relationships/audio" Target="../media/meepmeep.wav"/><Relationship Id="rId11" Type="http://schemas.openxmlformats.org/officeDocument/2006/relationships/audio" Target="../media/meepmeep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meepmeep.wav"/><Relationship Id="rId10" Type="http://schemas.openxmlformats.org/officeDocument/2006/relationships/audio" Target="../media/meepmeep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zipdn102.wav"/><Relationship Id="rId14" Type="http://schemas.openxmlformats.org/officeDocument/2006/relationships/audio" Target="../media/meepmeep.wav"/><Relationship Id="rId15" Type="http://schemas.openxmlformats.org/officeDocument/2006/relationships/audio" Target="../media/meepmeep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zipdn102.wav"/><Relationship Id="rId14" Type="http://schemas.openxmlformats.org/officeDocument/2006/relationships/audio" Target="../media/meepmeep.wav"/><Relationship Id="rId15" Type="http://schemas.openxmlformats.org/officeDocument/2006/relationships/audio" Target="../media/meepmeep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olum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041800" y="2746440"/>
                <a:ext cx="2052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559480" y="4352760"/>
                <a:ext cx="1019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69880" y="1427040"/>
                <a:ext cx="852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494000" y="1492200"/>
            <a:ext cx="2249280" cy="1525680"/>
          </a:xfrm>
          <a:prstGeom prst="cube">
            <a:avLst>
              <a:gd name="adj" fmla="val 53874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76520" y="3021120"/>
                <a:ext cx="1127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405240" y="2433600"/>
                <a:ext cx="1168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04920" y="2395440"/>
                <a:ext cx="1168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" name=""/>
          <p:cNvGrpSpPr/>
          <p:nvPr/>
        </p:nvGrpSpPr>
        <p:grpSpPr>
          <a:xfrm>
            <a:off x="4935600" y="1335240"/>
            <a:ext cx="3454200" cy="1612080"/>
            <a:chOff x="4935600" y="1335240"/>
            <a:chExt cx="3454200" cy="1612080"/>
          </a:xfrm>
        </p:grpSpPr>
        <p:sp>
          <p:nvSpPr>
            <p:cNvPr id="51" name=""/>
            <p:cNvSpPr/>
            <p:nvPr/>
          </p:nvSpPr>
          <p:spPr>
            <a:xfrm>
              <a:off x="4935600" y="1756080"/>
              <a:ext cx="345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r>
                <a:rPr b="0" lang="en-US" sz="7200" spc="-1" strike="noStrike">
                  <a:solidFill>
                    <a:srgbClr val="000000"/>
                  </a:solidFill>
                  <a:latin typeface="TypoUpright BT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ypoUpright BT"/>
                </a:rPr>
                <a:t>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83000" y="1335240"/>
              <a:ext cx="108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45120" y="1371600"/>
              <a:ext cx="1089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454720" y="3540240"/>
                <a:ext cx="131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710400" y="4248000"/>
                <a:ext cx="906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olum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94360" y="2746440"/>
                <a:ext cx="19479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559480" y="4325760"/>
                <a:ext cx="101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47560" y="1427040"/>
                <a:ext cx="897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494000" y="1492200"/>
            <a:ext cx="1974600" cy="1860480"/>
          </a:xfrm>
          <a:prstGeom prst="cube">
            <a:avLst>
              <a:gd name="adj" fmla="val 27388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77960" y="3382920"/>
                <a:ext cx="1211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197160" y="2913120"/>
                <a:ext cx="1211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2840" y="2324160"/>
                <a:ext cx="12096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481720" y="3540240"/>
                <a:ext cx="126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4640" y="4218120"/>
                <a:ext cx="10764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951440" y="1212840"/>
            <a:ext cx="3454200" cy="1612080"/>
            <a:chOff x="4951440" y="1212840"/>
            <a:chExt cx="3454200" cy="1612080"/>
          </a:xfrm>
        </p:grpSpPr>
        <p:sp>
          <p:nvSpPr>
            <p:cNvPr id="68" name=""/>
            <p:cNvSpPr/>
            <p:nvPr/>
          </p:nvSpPr>
          <p:spPr>
            <a:xfrm>
              <a:off x="4951440" y="1633680"/>
              <a:ext cx="345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r>
                <a:rPr b="0" lang="en-US" sz="7200" spc="-1" strike="noStrike">
                  <a:solidFill>
                    <a:srgbClr val="000000"/>
                  </a:solidFill>
                  <a:latin typeface="TypoUpright BT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ypoUpright BT"/>
                </a:rPr>
                <a:t>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98840" y="1212840"/>
              <a:ext cx="108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60960" y="1249200"/>
              <a:ext cx="1089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olum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680080" y="2644920"/>
                <a:ext cx="20541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226200" y="4224240"/>
                <a:ext cx="9619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47560" y="1427040"/>
                <a:ext cx="897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220760" y="2192400"/>
                <a:ext cx="3255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dth of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89080" y="2906640"/>
                <a:ext cx="3340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of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201680" y="1479600"/>
                <a:ext cx="33796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ight of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119640" y="3438360"/>
                <a:ext cx="12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191360" y="4102200"/>
                <a:ext cx="10764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812880" y="4862520"/>
            <a:ext cx="1684080" cy="84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6840" y="4245120"/>
            <a:ext cx="1684080" cy="84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12880" y="4238280"/>
            <a:ext cx="1887480" cy="6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33400" y="5071680"/>
            <a:ext cx="1887480" cy="6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17840" y="4244760"/>
            <a:ext cx="1887480" cy="6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517840" y="5073120"/>
            <a:ext cx="1887480" cy="6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194440" y="984240"/>
            <a:ext cx="3454200" cy="1612080"/>
            <a:chOff x="5194440" y="984240"/>
            <a:chExt cx="3454200" cy="1612080"/>
          </a:xfrm>
        </p:grpSpPr>
        <p:sp>
          <p:nvSpPr>
            <p:cNvPr id="88" name=""/>
            <p:cNvSpPr/>
            <p:nvPr/>
          </p:nvSpPr>
          <p:spPr>
            <a:xfrm>
              <a:off x="5194440" y="1405080"/>
              <a:ext cx="345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r>
                <a:rPr b="0" lang="en-US" sz="7200" spc="-1" strike="noStrike">
                  <a:solidFill>
                    <a:srgbClr val="000000"/>
                  </a:solidFill>
                  <a:latin typeface="TypoUpright BT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ypoUpright BT"/>
                </a:rPr>
                <a:t>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41840" y="984240"/>
              <a:ext cx="108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03960" y="1020600"/>
              <a:ext cx="1089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19360" y="4387680"/>
            <a:ext cx="987480" cy="84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9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olum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680080" y="2670120"/>
                <a:ext cx="20541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451560" y="4238640"/>
                <a:ext cx="566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7560" y="1427040"/>
                <a:ext cx="897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62160" y="2192400"/>
                <a:ext cx="3173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dth of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30480" y="2906640"/>
                <a:ext cx="32572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ngth of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43080" y="1479600"/>
                <a:ext cx="3297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ight of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94440" y="3465360"/>
                <a:ext cx="13129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004160" y="4176720"/>
                <a:ext cx="9842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509840" y="4862520"/>
            <a:ext cx="987120" cy="84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95440" y="4400280"/>
            <a:ext cx="1104840" cy="46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05240" y="4406760"/>
            <a:ext cx="1104840" cy="46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531800" y="5233680"/>
            <a:ext cx="1105200" cy="46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17840" y="5235120"/>
            <a:ext cx="1104840" cy="46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361120" y="1060560"/>
            <a:ext cx="3454200" cy="1612080"/>
            <a:chOff x="5361120" y="1060560"/>
            <a:chExt cx="3454200" cy="1612080"/>
          </a:xfrm>
        </p:grpSpPr>
        <p:sp>
          <p:nvSpPr>
            <p:cNvPr id="108" name=""/>
            <p:cNvSpPr/>
            <p:nvPr/>
          </p:nvSpPr>
          <p:spPr>
            <a:xfrm>
              <a:off x="5361120" y="1481400"/>
              <a:ext cx="345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r>
                <a:rPr b="0" lang="en-US" sz="7200" spc="-1" strike="noStrike">
                  <a:solidFill>
                    <a:srgbClr val="000000"/>
                  </a:solidFill>
                  <a:latin typeface="TypoUpright BT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ypoUpright BT"/>
                </a:rPr>
                <a:t>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08520" y="1060560"/>
              <a:ext cx="108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0640" y="1096920"/>
              <a:ext cx="1089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63836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79, 3 – 9 #1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9-21T19:07:05Z</dcterms:modified>
  <cp:revision>74</cp:revision>
  <dc:subject/>
  <dc:title>Slide 1</dc:title>
</cp:coreProperties>
</file>